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11B-DC44-4DFB-9C14-9B572326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F5D-6DB0-4A96-BA37-F4502E2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B24-AF09-4605-900A-A6C46EFC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84A-4844-4CD0-BF50-A13BFBFA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4F7-7371-4EA0-857D-1166BCE9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41D-D028-4F73-9D12-A1E86AE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02F-B3AF-4733-B2E4-867FEC8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312-E364-4D54-8CFF-AF1EAF4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0AD-6E21-474E-881C-568D804D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07D-1EA7-48B7-A640-D29B2B1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E65-ED9E-4561-83B3-8A2808F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EF4-3B7D-4837-A467-F184987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C91-EB33-4526-92EE-7FE8ED52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, Jasmine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91440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ush Script Std"/>
              </a:rPr>
              <a:t>Vocabulary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ush Script Std"/>
              <a:ea typeface="Brush Script St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-Mail- electronic mail which allows individuals with an account to send messages to another person with an e-mail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BS- bulletin board service allows a user to participate in a discussio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228600"/>
            <a:ext cx="1409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INTRO</a:t>
            </a:r>
            <a:endParaRPr b="0" lang="en-US" sz="4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OPHER-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REWALL-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NLINE PROFILING-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OOKIES-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NET-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ENT- a computer that acces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THERNET-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ETIQUETTE-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P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NETWORKS-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EB SITE- a series or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7:48Z</dcterms:created>
  <dc:creator>004student</dc:creator>
  <dc:description/>
  <dc:language>en-US</dc:language>
  <cp:lastModifiedBy>004student</cp:lastModifiedBy>
  <dcterms:modified xsi:type="dcterms:W3CDTF">2009-04-15T15:55:48Z</dcterms:modified>
  <cp:revision>4</cp:revision>
  <dc:subject/>
  <dc:title>Slide 1</dc:title>
</cp:coreProperties>
</file>